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70A-44FD-43EB-BEDF-94D297BF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A44-CC18-4361-8360-9A9E4326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94B-55AF-4053-B120-1D83220F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2C3-4CEA-4004-A679-22962B6C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805-AD64-4E1D-A743-FEEF0D31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2D7-6A6B-480B-B62B-07345AC5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7EE-E541-4BA3-8D1D-65119D3D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BA0-0F65-47AA-BF60-6C8E9D9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A25-7F64-413E-8251-35DBFD5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2D7-5592-4515-82D4-9BC44C6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7CE-02EE-48C7-A48C-A57DA6D4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F33-FAC0-4F0F-B2E6-8A1AA383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1EE-E503-47CF-9CB7-083F034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01A-A5F9-49A7-B5C3-70B7EF1C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C1A-945D-4DF0-BD00-312E5C2A4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724280" y="0"/>
            <a:ext cx="4419720" cy="1936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10-2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follower of Islam call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religion came first, Judaism or Isl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4191120" cy="132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0-2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Focus Test next Wed/Th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17220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7620120" y="1447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Juda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crowdedkaba"/>
          <p:cNvPicPr/>
          <p:nvPr/>
        </p:nvPicPr>
        <p:blipFill>
          <a:blip r:embed="rId1"/>
          <a:srcRect l="0" t="18809" r="0" b="0"/>
          <a:stretch/>
        </p:blipFill>
        <p:spPr>
          <a:xfrm>
            <a:off x="0" y="1981080"/>
            <a:ext cx="687708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5"/>
          <p:cNvSpPr/>
          <p:nvPr/>
        </p:nvSpPr>
        <p:spPr>
          <a:xfrm>
            <a:off x="6934320" y="289548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place is considered to be the center of the earth to Muslims. It is known as Kabba, meaning square or four si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0" y="1371600"/>
            <a:ext cx="464832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*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Have Religion Chart out on your desk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kaaba_satellite"/>
          <p:cNvPicPr/>
          <p:nvPr/>
        </p:nvPicPr>
        <p:blipFill>
          <a:blip r:embed="rId1"/>
          <a:stretch/>
        </p:blipFill>
        <p:spPr>
          <a:xfrm>
            <a:off x="762120" y="4572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1233" t="4840" r="1233" b="14519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tone1"/>
          <p:cNvPicPr/>
          <p:nvPr/>
        </p:nvPicPr>
        <p:blipFill>
          <a:blip r:embed="rId1"/>
          <a:stretch/>
        </p:blipFill>
        <p:spPr>
          <a:xfrm>
            <a:off x="990720" y="685800"/>
            <a:ext cx="259056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howLetter2"/>
          <p:cNvPicPr/>
          <p:nvPr/>
        </p:nvPicPr>
        <p:blipFill>
          <a:blip r:embed="rId2"/>
          <a:stretch/>
        </p:blipFill>
        <p:spPr>
          <a:xfrm>
            <a:off x="4419720" y="609480"/>
            <a:ext cx="3400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WINDOWS\Desktop\World\medinamosqueofprophet.gif"/>
          <p:cNvPicPr/>
          <p:nvPr/>
        </p:nvPicPr>
        <p:blipFill>
          <a:blip r:embed="rId1"/>
          <a:stretch/>
        </p:blipFill>
        <p:spPr>
          <a:xfrm>
            <a:off x="457200" y="304920"/>
            <a:ext cx="4038480" cy="228600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0" name="Text Box 3"/>
          <p:cNvSpPr/>
          <p:nvPr/>
        </p:nvSpPr>
        <p:spPr>
          <a:xfrm>
            <a:off x="4921560" y="457200"/>
            <a:ext cx="3733200" cy="1739880"/>
          </a:xfrm>
          <a:prstGeom prst="rect">
            <a:avLst/>
          </a:prstGeom>
          <a:gradFill rotWithShape="0">
            <a:gsLst>
              <a:gs pos="0">
                <a:srgbClr val="ac904f"/>
              </a:gs>
              <a:gs pos="50000">
                <a:srgbClr val="f8cf72"/>
              </a:gs>
              <a:gs pos="100000">
                <a:srgbClr val="ac904f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osque Of 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rop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In Madi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WINDOWS\Desktop\World\prophetsmosque in medina.jpg"/>
          <p:cNvPicPr/>
          <p:nvPr/>
        </p:nvPicPr>
        <p:blipFill>
          <a:blip r:embed="rId2"/>
          <a:stretch/>
        </p:blipFill>
        <p:spPr>
          <a:xfrm>
            <a:off x="495360" y="2819520"/>
            <a:ext cx="8153280" cy="38163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276880" cy="3267000"/>
          </a:xfrm>
          <a:prstGeom prst="rect">
            <a:avLst/>
          </a:prstGeom>
          <a:ln w="57240">
            <a:solidFill>
              <a:srgbClr val="5c2e00"/>
            </a:solidFill>
            <a:miter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4076640" cy="2828880"/>
          </a:xfrm>
          <a:prstGeom prst="rect">
            <a:avLst/>
          </a:prstGeom>
          <a:ln w="57240">
            <a:solidFill>
              <a:srgbClr val="5c2e00"/>
            </a:solidFill>
            <a:miter/>
          </a:ln>
        </p:spPr>
      </p:pic>
      <p:graphicFrame>
        <p:nvGraphicFramePr>
          <p:cNvPr id="64" name="Object 1024"/>
          <p:cNvGraphicFramePr/>
          <p:nvPr/>
        </p:nvGraphicFramePr>
        <p:xfrm>
          <a:off x="8534520" y="6324480"/>
          <a:ext cx="3045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0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4520" y="6324480"/>
                    <a:ext cx="304560" cy="304920"/>
                  </a:xfrm>
                  <a:prstGeom prst="rect">
                    <a:avLst/>
                  </a:prstGeom>
                  <a:ln w="9360">
                    <a:solidFill>
                      <a:srgbClr val="5c2e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" name="Text Box 5"/>
          <p:cNvSpPr/>
          <p:nvPr/>
        </p:nvSpPr>
        <p:spPr>
          <a:xfrm>
            <a:off x="5760720" y="685800"/>
            <a:ext cx="2885760" cy="19224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fff99"/>
              </a:gs>
              <a:gs pos="100000">
                <a:srgbClr val="663300"/>
              </a:gs>
            </a:gsLst>
            <a:lin ang="5400000"/>
          </a:gradFill>
          <a:ln w="57240">
            <a:solidFill>
              <a:srgbClr val="5c2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e00"/>
                </a:solidFill>
                <a:latin typeface="Arial"/>
              </a:rPr>
              <a:t>The Qura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e00"/>
                </a:solidFill>
                <a:latin typeface="Arial"/>
              </a:rPr>
              <a:t>Holy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c2e00"/>
                </a:solidFill>
                <a:latin typeface="Arial"/>
              </a:rPr>
              <a:t>Of 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www.sbceo.k12.ca.us/~vms/carlton/quran3.jpg"/>
          <p:cNvPicPr/>
          <p:nvPr/>
        </p:nvPicPr>
        <p:blipFill>
          <a:blip r:embed="rId5"/>
          <a:stretch/>
        </p:blipFill>
        <p:spPr>
          <a:xfrm>
            <a:off x="228600" y="3809880"/>
            <a:ext cx="4114800" cy="2759040"/>
          </a:xfrm>
          <a:prstGeom prst="rect">
            <a:avLst/>
          </a:prstGeom>
          <a:ln w="57240">
            <a:solidFill>
              <a:srgbClr val="5c2e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278520" y="578520"/>
            <a:ext cx="26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Monotheistic 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143000"/>
          <a:ext cx="8615160" cy="5100480"/>
        </p:xfrm>
        <a:graphic>
          <a:graphicData uri="http://schemas.openxmlformats.org/drawingml/2006/table">
            <a:tbl>
              <a:tblPr/>
              <a:tblGrid>
                <a:gridCol w="1174680"/>
                <a:gridCol w="882720"/>
                <a:gridCol w="914400"/>
                <a:gridCol w="836640"/>
                <a:gridCol w="1373040"/>
                <a:gridCol w="1219320"/>
                <a:gridCol w="1069920"/>
                <a:gridCol w="114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y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cred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s and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of W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er Ca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in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1800 B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Christia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33 C.E. (or A.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largest  # of follo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Means to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“surrender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622 C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(or A.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12"/>
          <p:cNvSpPr/>
          <p:nvPr/>
        </p:nvSpPr>
        <p:spPr>
          <a:xfrm>
            <a:off x="0" y="62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4"/>
          <p:cNvSpPr/>
          <p:nvPr/>
        </p:nvSpPr>
        <p:spPr>
          <a:xfrm>
            <a:off x="1450800" y="1752480"/>
            <a:ext cx="9144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oses gave 10 command-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5"/>
          <p:cNvSpPr/>
          <p:nvPr/>
        </p:nvSpPr>
        <p:spPr>
          <a:xfrm>
            <a:off x="2286000" y="1828800"/>
            <a:ext cx="9907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uk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ass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Yom Kip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6"/>
          <p:cNvSpPr/>
          <p:nvPr/>
        </p:nvSpPr>
        <p:spPr>
          <a:xfrm>
            <a:off x="3276720" y="16765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7"/>
          <p:cNvSpPr/>
          <p:nvPr/>
        </p:nvSpPr>
        <p:spPr>
          <a:xfrm>
            <a:off x="3276720" y="1752480"/>
            <a:ext cx="838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o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Yahweh or Jehov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9"/>
          <p:cNvSpPr/>
          <p:nvPr/>
        </p:nvSpPr>
        <p:spPr>
          <a:xfrm>
            <a:off x="5486400" y="1676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ynag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0"/>
          <p:cNvSpPr/>
          <p:nvPr/>
        </p:nvSpPr>
        <p:spPr>
          <a:xfrm>
            <a:off x="6858000" y="1676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1"/>
          <p:cNvSpPr/>
          <p:nvPr/>
        </p:nvSpPr>
        <p:spPr>
          <a:xfrm>
            <a:off x="7772400" y="1676520"/>
            <a:ext cx="1143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3"/>
          <p:cNvSpPr/>
          <p:nvPr/>
        </p:nvSpPr>
        <p:spPr>
          <a:xfrm>
            <a:off x="4114800" y="16765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4"/>
          <p:cNvSpPr/>
          <p:nvPr/>
        </p:nvSpPr>
        <p:spPr>
          <a:xfrm>
            <a:off x="4038480" y="1752480"/>
            <a:ext cx="1447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ab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ll Looking for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ose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16002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2286000" y="3352680"/>
            <a:ext cx="99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241800" y="3341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2362320" y="4952880"/>
            <a:ext cx="990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1413000" y="4946760"/>
            <a:ext cx="1143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roph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4114800" y="3376440"/>
            <a:ext cx="1447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Jesus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the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God’s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521320" y="3341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u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4114800" y="4724280"/>
            <a:ext cx="1389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where Muhammad ascended in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ve pillars of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3235320" y="4946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Ko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*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7772400" y="33289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 &amp;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6858000" y="32767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7819920" y="487692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693432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6"/>
          <p:cNvSpPr/>
          <p:nvPr/>
        </p:nvSpPr>
        <p:spPr>
          <a:xfrm>
            <a:off x="5538960" y="4807080"/>
            <a:ext cx="86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ca in Saudi Arabia is a most 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21:30:34Z</dcterms:created>
  <dc:creator>Selena Ramsey</dc:creator>
  <dc:description/>
  <dc:language>en-US</dc:language>
  <cp:lastModifiedBy>poweruser</cp:lastModifiedBy>
  <dcterms:modified xsi:type="dcterms:W3CDTF">2011-10-28T13:04:27Z</dcterms:modified>
  <cp:revision>42</cp:revision>
  <dc:subject/>
  <dc:title>Agenda Nov. 9, 2005</dc:title>
</cp:coreProperties>
</file>